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A18A-CD98-479E-912D-FAD6E9F89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5DDE-206D-467D-ADFB-CD8D0E989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CB8F-8C65-49FD-8C4B-D56AB53B3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47E1-11E4-4BD3-B0E1-16DD63DAD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94CFE-E4E9-446C-8FC7-8E8C19C6A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3FD9C-4499-43C3-B32E-577B3CA24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EE76C-B5BF-4BB3-89D3-A3AE90DB1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331DB-535E-4C2D-9D57-92FC1F261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992D7-123F-4B35-9AE4-F6F4BC955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0A23A-DF5C-4CEA-AAC3-854D95AD2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B2AF8-FA5D-4E08-944E-AF333695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0681-BCDE-4C44-A461-2441FD65B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110BA-00BF-468C-AE82-58B59748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566A0-81EC-4496-B6E9-FA69B741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2EC41-6971-4045-909F-94253F2D4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C2850-36CB-4635-9A9E-EDCB5FD7B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51A78-A9C9-479D-BD61-12B96B50C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2A5B4-5077-4708-805C-1E8BA60C1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8E257-9D4D-46A0-904D-573E0D326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604D8-E2F6-48D7-95F0-A3468960D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7A3DD-B6BA-4A8E-BD68-EC238DD40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AEA16-725E-46CB-975E-2A49DF273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C945-740A-4279-9460-BCC6C373C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F2684-C487-497C-A1CA-76FF5833D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08945-0F87-4124-9309-A20B3573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20D40-3F22-41B9-B264-FAF5A426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CEABB-8193-4341-BF1C-50CA6E58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23DF3-B903-4A1D-9BB3-A26817995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26E2D-E2D0-45C6-B4AE-248A875B4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672A8-8B85-431E-BD11-3E3DFEB69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037CBB-D927-438F-96F8-9DECD3E6F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33501F-10AD-4E72-88AE-D59FECDCC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C45046-B717-4E61-ADB7-0D202CAD6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AF4B-4726-4FF2-AA69-F5B8746AC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E5C2DF-6BCB-4587-94C4-24A584C0C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473E34-7349-4316-8837-055AD8580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D04A5C-B3F8-4CA0-9CE6-D06C53071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9FEBE5-1136-4A5A-905E-4DFF2FB0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065ACB-04B4-447E-8E3A-9872114C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89B4D2-F93D-4BAB-A7E2-2BA1071C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13A44A-6008-4763-BB6E-A7B17DE0B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B65BFE-1499-4E93-ACC1-E137AFE1A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0B4E74-41C8-44D4-90B4-792691639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807CCA-960A-4C72-8E20-44A4A19C0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0CA7-5017-44FC-8B07-4A8757A32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D4123E-916C-4B73-81B2-3244EB1CD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CD42E2-8DEE-4EB8-BDDF-A801EC23F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8CD573-457D-4E05-9C30-973331879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5FAF72-3A5C-4676-BAE6-60D0132CA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4FDD7C-D91D-4FA9-AA07-4F6D5F3FB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77BE2E-3A95-442E-A9B5-F0565601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3B2A17-2632-4142-B9E7-8C0CD392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ED245C-FAD7-479C-B970-CE8EEB80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B4521E-B4A3-4D4D-B2FE-F6794931B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87E20E-30FD-47C7-B0FD-05F8E697D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75C2-5584-4432-9C96-57DCF2F6C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74E65B-1B01-4754-8397-5CE2068CA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567E42-F5C5-46F0-8CF2-94E10CA8C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15A5B5-FD12-43E0-982E-9B70831F7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CF0D9B-6254-427F-944B-8C1230CD8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D817E1-4D23-4DD9-BA38-D27538F88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F51BB5-D4BA-4919-91AE-14697E039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91AFB0-0B7E-4E17-9C3D-ECE9625DA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3E523D-6C34-47FA-8AA7-26F2A1DA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B99154-A352-49C6-93A5-09E901B3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017A7E-550B-4363-84E6-A50A34F3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003C-C29D-4256-9365-52ED0D01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583207-A07B-4D14-922A-DA132FB2E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3DDDCD-FF37-488C-A8CB-F0211FCCD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F4B3E1-40C7-4BDA-B758-0E10C6937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9E57-901E-4C88-8B3D-758E5221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5C75-2CFE-4D9E-99C5-3BF1EC91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cebd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48f6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cceb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4e2d4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76a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ceb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6CBBC-E87A-4AF4-B42B-442D9D3B5DC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9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ccebd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5e0d6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5e0d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bf0ec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0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ccebd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17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bf0ec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19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ccebd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1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1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ccebd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0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2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2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25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24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48f6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cceb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4e2d4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76a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476AB-76E0-4094-9447-B5BE41C9181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8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ccebd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5e0d6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5e0d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bf0ec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2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ccebd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Straight Connector 13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bf0ec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Straight Connector 14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1" name="Straight Connector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ccebd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Straight Connector 16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" name="Rectangle 1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ccebd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4" name="Oval 1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5" name="Oval 19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6" name="Oval 2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7" name="Oval 21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Oval 22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9" name="Straight Connector 25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bde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aebde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48f6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cceb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4e2d4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bd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bd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940CD-E96B-4FB9-BC97-C8E822B4017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cebd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ceb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48f6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cceb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4e2d4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76a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47ABE-69F0-4435-82F8-BCD4246FDD8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9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cebd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7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Straight Connector 10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Rectangle 11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ceb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Straight Connector 12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Oval 1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48f6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cceb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4e2d4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76a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F33BB-F0E3-4DF4-BD3E-A98A73BE9AD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traight Connector 8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Oval 1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9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0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c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11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Straight Connector 18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Straight Connector 19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48f6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cceb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4e2d4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76a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3EE89-575A-4DB5-A72D-ECEF88BCAEB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2057400" y="0"/>
            <a:ext cx="4857840" cy="331164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3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HE 397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Group Charli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Priya Chetty, Scott Morgan, Brian Mottel, Daniyal Qamar, Sukhjinder Singh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Mentor: Dennis O’ Brie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Dr. Jeffery Per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6a55"/>
                </a:solidFill>
                <a:latin typeface="Century Schoolbook"/>
              </a:rPr>
              <a:t>Data Reactor</a:t>
            </a:r>
            <a:endParaRPr b="0" lang="en-US" sz="2600" spc="-1" strike="noStrike">
              <a:solidFill>
                <a:srgbClr val="676a55"/>
              </a:solidFill>
              <a:latin typeface="Century Schoolbook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228600" y="914400"/>
          <a:ext cx="8534520" cy="2944800"/>
        </p:xfrm>
        <a:graphic>
          <a:graphicData uri="http://schemas.openxmlformats.org/drawingml/2006/table">
            <a:tbl>
              <a:tblPr/>
              <a:tblGrid>
                <a:gridCol w="973080"/>
                <a:gridCol w="968400"/>
                <a:gridCol w="835200"/>
                <a:gridCol w="920520"/>
                <a:gridCol w="903240"/>
                <a:gridCol w="901800"/>
                <a:gridCol w="816120"/>
                <a:gridCol w="668160"/>
                <a:gridCol w="793800"/>
                <a:gridCol w="754200"/>
              </a:tblGrid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pon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(lbmol/h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action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00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675.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37.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69.4455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35.2083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68.0897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84.530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92.7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46.860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00.9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r>
                        <a:rPr b="1" lang="en-U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831.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98.0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49.410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271.785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626.386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546.09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247.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838.372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641.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</a:t>
                      </a:r>
                      <a:r>
                        <a:rPr b="1" lang="en-U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9.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.55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9.702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.46676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3.23074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9.9947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6.75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3.52271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46.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</a:t>
                      </a:r>
                      <a:r>
                        <a:rPr b="1" lang="en-U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57.10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94.4916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9.4205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55.5241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71.964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80.1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34.2954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88.4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r>
                        <a:rPr b="1" lang="en-U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.1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.4220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.588110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.258670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.92922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.599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.270348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1.20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9" name=""/>
          <p:cNvGraphicFramePr/>
          <p:nvPr/>
        </p:nvGraphicFramePr>
        <p:xfrm>
          <a:off x="5943600" y="4191120"/>
          <a:ext cx="2743200" cy="1141200"/>
        </p:xfrm>
        <a:graphic>
          <a:graphicData uri="http://schemas.openxmlformats.org/drawingml/2006/table">
            <a:tbl>
              <a:tblPr/>
              <a:tblGrid>
                <a:gridCol w="1058760"/>
                <a:gridCol w="1684440"/>
              </a:tblGrid>
              <a:tr h="28404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rge (lbmol/h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7.43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3.42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2.9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0" name=""/>
          <p:cNvGraphicFramePr/>
          <p:nvPr/>
        </p:nvGraphicFramePr>
        <p:xfrm>
          <a:off x="228600" y="4191120"/>
          <a:ext cx="5334120" cy="2247840"/>
        </p:xfrm>
        <a:graphic>
          <a:graphicData uri="http://schemas.openxmlformats.org/drawingml/2006/table">
            <a:tbl>
              <a:tblPr/>
              <a:tblGrid>
                <a:gridCol w="1300320"/>
                <a:gridCol w="1050840"/>
                <a:gridCol w="1747800"/>
                <a:gridCol w="123516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thalpies 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tu/lbm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lows In (lbmol/h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In (Btu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72E+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976.811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57190E+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68E+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472.953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3777E+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37E+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6.6198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9327E+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3O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8E+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000E+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3E+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000E+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20E+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1E+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91428E+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456840" y="68544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72880">
              <a:spcBef>
                <a:spcPts val="115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6a55"/>
                </a:solidFill>
                <a:latin typeface="Century Schoolbook"/>
              </a:rPr>
              <a:t>MATERIAL AND ENERGY BALANCES</a:t>
            </a:r>
            <a:br>
              <a:rPr sz="4600"/>
            </a:br>
            <a:r>
              <a:rPr b="0" lang="en-US" sz="4600" spc="-1" strike="noStrike">
                <a:solidFill>
                  <a:srgbClr val="676a55"/>
                </a:solidFill>
                <a:latin typeface="Century Schoolbook"/>
              </a:rPr>
              <a:t>DISTILLATION COLUMN</a:t>
            </a:r>
            <a:endParaRPr b="0" lang="en-US" sz="4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-3052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Material Balance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228600" y="1143000"/>
          <a:ext cx="8686800" cy="4950000"/>
        </p:xfrm>
        <a:graphic>
          <a:graphicData uri="http://schemas.openxmlformats.org/drawingml/2006/table">
            <a:tbl>
              <a:tblPr/>
              <a:tblGrid>
                <a:gridCol w="1295280"/>
                <a:gridCol w="1371600"/>
                <a:gridCol w="1067040"/>
                <a:gridCol w="1341360"/>
                <a:gridCol w="1173240"/>
                <a:gridCol w="1234800"/>
                <a:gridCol w="1203480"/>
              </a:tblGrid>
              <a:tr h="871560">
                <a:tc gridSpan="7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Material Balance Distillation Colum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66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mpon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eed Composi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mount in feed            (LB-MOL/H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istillate Composi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mount in Distillate    (LB-Mol/H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ottoms Composi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mount in Bottoms     (LB-Mol/H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  <a:tr h="904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ethan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97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488.4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9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450.9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1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7.4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  <a:tr h="903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a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2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1.2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9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8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0.2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903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669.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451.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17.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Energy Balance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533160" y="1523520"/>
            <a:ext cx="74674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6a55"/>
                </a:solidFill>
                <a:latin typeface="Century Schoolbook"/>
              </a:rPr>
              <a:t>  </a:t>
            </a:r>
            <a:r>
              <a:rPr b="1" lang="en-US" sz="4000" spc="-1" strike="noStrike">
                <a:solidFill>
                  <a:srgbClr val="676a55"/>
                </a:solidFill>
                <a:latin typeface="Century Schoolbook"/>
              </a:rPr>
              <a:t>HAND CALCULATIONS AND DATA DISTILLATION COLUMN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Distillation Column Material Balance 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ssumptio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7669.62 lb-Moles/Hr of Methanol/H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0 in feed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Feed composition 97.6% Methanol, 2.4% H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Feed Pressure is 14.7psi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99.5% Methanol in Distillat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Hand Calculations Distillation Column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aterial Balan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F = B + D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Fz = Bx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Century Schoolbook"/>
              </a:rPr>
              <a:t>B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+ Dx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Century Schoolbook"/>
              </a:rPr>
              <a:t>D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nergy Balan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Fh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Century Schoolbook"/>
              </a:rPr>
              <a:t>f 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+ Q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Century Schoolbook"/>
              </a:rPr>
              <a:t>C 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+ Q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Century Schoolbook"/>
              </a:rPr>
              <a:t>R 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= Dh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Century Schoolbook"/>
              </a:rPr>
              <a:t>D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+Bh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Century Schoolbook"/>
              </a:rPr>
              <a:t>B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Q = mC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Century Schoolbook"/>
              </a:rPr>
              <a:t>P</a:t>
            </a:r>
            <a:r>
              <a:rPr b="0" lang="el-GR" sz="2100" spc="-1" strike="noStrike">
                <a:solidFill>
                  <a:srgbClr val="000000"/>
                </a:solidFill>
                <a:latin typeface="Century Schoolbook"/>
              </a:rPr>
              <a:t>Δ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5334120" y="1600200"/>
            <a:ext cx="347508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3160" y="2209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Century Schoolbook"/>
              </a:rPr>
              <a:t>MATERIAL AND ENERGY BALANCE</a:t>
            </a:r>
            <a:br>
              <a:rPr sz="4000"/>
            </a:br>
            <a:r>
              <a:rPr b="0" lang="en-US" sz="4000" spc="-1" strike="noStrike">
                <a:solidFill>
                  <a:srgbClr val="676a55"/>
                </a:solidFill>
                <a:latin typeface="Century Schoolbook"/>
              </a:rPr>
              <a:t>HEAT EXCHANGER</a:t>
            </a:r>
            <a:endParaRPr b="0" lang="en-US" sz="4000" spc="-1" strike="noStrike">
              <a:solidFill>
                <a:srgbClr val="676a55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MATERIAL BALANCE AND DATA for HEAT EXCHANGER 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838080" y="1600200"/>
          <a:ext cx="6782040" cy="1941480"/>
        </p:xfrm>
        <a:graphic>
          <a:graphicData uri="http://schemas.openxmlformats.org/drawingml/2006/table">
            <a:tbl>
              <a:tblPr/>
              <a:tblGrid>
                <a:gridCol w="1495440"/>
                <a:gridCol w="1992240"/>
                <a:gridCol w="1467000"/>
                <a:gridCol w="1827360"/>
              </a:tblGrid>
              <a:tr h="947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rude 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emperature (F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low-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bmol/hr (in/ou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emperature Out (F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</a:tr>
              <a:tr h="511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eO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1.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  <a:tr h="482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Wa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.75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5" name=""/>
          <p:cNvGraphicFramePr/>
          <p:nvPr/>
        </p:nvGraphicFramePr>
        <p:xfrm>
          <a:off x="838080" y="3581280"/>
          <a:ext cx="6782040" cy="2551320"/>
        </p:xfrm>
        <a:graphic>
          <a:graphicData uri="http://schemas.openxmlformats.org/drawingml/2006/table">
            <a:tbl>
              <a:tblPr/>
              <a:tblGrid>
                <a:gridCol w="1495440"/>
                <a:gridCol w="1992240"/>
                <a:gridCol w="1467000"/>
                <a:gridCol w="1827360"/>
              </a:tblGrid>
              <a:tr h="104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yngas 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emperature (F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low-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bmol/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in/ou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emperature Out (F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</a:tr>
              <a:tr h="51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  <a:tr h="51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481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Hand Calculations HX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78487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Q = </a:t>
            </a:r>
            <a:r>
              <a:rPr b="0" lang="el-GR" sz="1600" spc="-1" strike="noStrike">
                <a:solidFill>
                  <a:srgbClr val="000000"/>
                </a:solidFill>
                <a:latin typeface="Century Schoolbook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entury Schoolbook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C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entury Schoolbook"/>
              </a:rPr>
              <a:t>i</a:t>
            </a:r>
            <a:r>
              <a:rPr b="0" lang="el-GR" sz="1600" spc="-1" strike="noStrike">
                <a:solidFill>
                  <a:srgbClr val="000000"/>
                </a:solidFill>
                <a:latin typeface="Century Schoolbook"/>
              </a:rPr>
              <a:t>Δ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T(Syngas in) = 482 ˚F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T(Crude MeOH in) = 515 ˚F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Crude MeOH in = 31.22 lbmol/hr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Water in = .7554 lbmol/hr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Syngas Compositions (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 = 6.6, CO = 3.2, C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entury Schoolbook"/>
              </a:rPr>
              <a:t>2  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= 2)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Q = 31.22lbmol/hr(267)(482-515) +.7554lbmol/hr(271)(482-515)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Q = -281834.9622 Btu/hr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374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entury Schoolbook"/>
              </a:rPr>
              <a:t>= 6.6(122)(T-482) + 3.2(126)(T-482) + 2(188)(T-482)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374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entury Schoolbook"/>
              </a:rPr>
              <a:t>= 8052T - 388106.4  + 403.2T – 194342.4 + 37.6T – 18123.2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281834.96 Btu/hr = 100 (125) (T-482)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T(Syngas out) = 505 ˚F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5791320" y="1600200"/>
          <a:ext cx="2361960" cy="690480"/>
        </p:xfrm>
        <a:graphic>
          <a:graphicData uri="http://schemas.openxmlformats.org/drawingml/2006/table">
            <a:tbl>
              <a:tblPr/>
              <a:tblGrid>
                <a:gridCol w="1180800"/>
                <a:gridCol w="118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ethan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H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9" name=""/>
          <p:cNvSpPr/>
          <p:nvPr/>
        </p:nvSpPr>
        <p:spPr>
          <a:xfrm>
            <a:off x="5734440" y="1219320"/>
            <a:ext cx="2399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 Values (Btu/l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o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°F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467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a55"/>
                </a:solidFill>
                <a:latin typeface="Century Schoolbook"/>
              </a:rPr>
              <a:t>BLOCK FLOW DIAGRAM</a:t>
            </a:r>
            <a:endParaRPr b="0" lang="en-US" sz="28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07" name=""/>
          <p:cNvSpPr/>
          <p:nvPr/>
        </p:nvSpPr>
        <p:spPr>
          <a:xfrm>
            <a:off x="304920" y="1523880"/>
            <a:ext cx="914400" cy="914400"/>
          </a:xfrm>
          <a:prstGeom prst="rect">
            <a:avLst/>
          </a:prstGeom>
          <a:solidFill>
            <a:srgbClr val="72a3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 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ressor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"/>
          <p:cNvSpPr/>
          <p:nvPr/>
        </p:nvSpPr>
        <p:spPr>
          <a:xfrm>
            <a:off x="1219320" y="1981080"/>
            <a:ext cx="4572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"/>
          <p:cNvSpPr/>
          <p:nvPr/>
        </p:nvSpPr>
        <p:spPr>
          <a:xfrm>
            <a:off x="1676520" y="1523880"/>
            <a:ext cx="838080" cy="914400"/>
          </a:xfrm>
          <a:prstGeom prst="rect">
            <a:avLst/>
          </a:prstGeom>
          <a:solidFill>
            <a:srgbClr val="72a3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X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1752480" y="2437920"/>
            <a:ext cx="180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1752480" y="1219320"/>
            <a:ext cx="18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"/>
          <p:cNvSpPr/>
          <p:nvPr/>
        </p:nvSpPr>
        <p:spPr>
          <a:xfrm>
            <a:off x="2362320" y="1219320"/>
            <a:ext cx="14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3" name=""/>
          <p:cNvSpPr/>
          <p:nvPr/>
        </p:nvSpPr>
        <p:spPr>
          <a:xfrm>
            <a:off x="2362320" y="2438280"/>
            <a:ext cx="14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4" name=""/>
          <p:cNvSpPr/>
          <p:nvPr/>
        </p:nvSpPr>
        <p:spPr>
          <a:xfrm>
            <a:off x="1828800" y="3200400"/>
            <a:ext cx="457200" cy="304920"/>
          </a:xfrm>
          <a:prstGeom prst="rect">
            <a:avLst/>
          </a:prstGeom>
          <a:solidFill>
            <a:srgbClr val="72a3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5" name=""/>
          <p:cNvSpPr/>
          <p:nvPr/>
        </p:nvSpPr>
        <p:spPr>
          <a:xfrm>
            <a:off x="2535120" y="2057400"/>
            <a:ext cx="3812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6" name=""/>
          <p:cNvSpPr/>
          <p:nvPr/>
        </p:nvSpPr>
        <p:spPr>
          <a:xfrm>
            <a:off x="2916360" y="1676520"/>
            <a:ext cx="990360" cy="914400"/>
          </a:xfrm>
          <a:prstGeom prst="rect">
            <a:avLst/>
          </a:prstGeom>
          <a:solidFill>
            <a:srgbClr val="72a3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litter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7" name=""/>
          <p:cNvSpPr/>
          <p:nvPr/>
        </p:nvSpPr>
        <p:spPr>
          <a:xfrm>
            <a:off x="3906720" y="1905120"/>
            <a:ext cx="5335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8" name=""/>
          <p:cNvSpPr/>
          <p:nvPr/>
        </p:nvSpPr>
        <p:spPr>
          <a:xfrm>
            <a:off x="3906720" y="2133720"/>
            <a:ext cx="5335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9" name=""/>
          <p:cNvSpPr/>
          <p:nvPr/>
        </p:nvSpPr>
        <p:spPr>
          <a:xfrm>
            <a:off x="3906720" y="2362320"/>
            <a:ext cx="5335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0" name=""/>
          <p:cNvSpPr/>
          <p:nvPr/>
        </p:nvSpPr>
        <p:spPr>
          <a:xfrm>
            <a:off x="4440240" y="1676520"/>
            <a:ext cx="914400" cy="914400"/>
          </a:xfrm>
          <a:prstGeom prst="rect">
            <a:avLst/>
          </a:prstGeom>
          <a:solidFill>
            <a:srgbClr val="72a3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o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"/>
          <p:cNvSpPr/>
          <p:nvPr/>
        </p:nvSpPr>
        <p:spPr>
          <a:xfrm>
            <a:off x="5334120" y="21337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2" name=""/>
          <p:cNvSpPr/>
          <p:nvPr/>
        </p:nvSpPr>
        <p:spPr>
          <a:xfrm>
            <a:off x="7031160" y="1676520"/>
            <a:ext cx="761760" cy="914400"/>
          </a:xfrm>
          <a:prstGeom prst="rect">
            <a:avLst/>
          </a:prstGeom>
          <a:solidFill>
            <a:srgbClr val="72a3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enser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3" name=""/>
          <p:cNvSpPr/>
          <p:nvPr/>
        </p:nvSpPr>
        <p:spPr>
          <a:xfrm>
            <a:off x="7792920" y="2133720"/>
            <a:ext cx="3812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4" name=""/>
          <p:cNvSpPr/>
          <p:nvPr/>
        </p:nvSpPr>
        <p:spPr>
          <a:xfrm>
            <a:off x="8174160" y="1676520"/>
            <a:ext cx="761760" cy="914400"/>
          </a:xfrm>
          <a:prstGeom prst="rect">
            <a:avLst/>
          </a:prstGeom>
          <a:solidFill>
            <a:srgbClr val="72a3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sh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5" name=""/>
          <p:cNvSpPr/>
          <p:nvPr/>
        </p:nvSpPr>
        <p:spPr>
          <a:xfrm>
            <a:off x="8555040" y="2590920"/>
            <a:ext cx="144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"/>
          <p:cNvSpPr/>
          <p:nvPr/>
        </p:nvSpPr>
        <p:spPr>
          <a:xfrm>
            <a:off x="8555040" y="3809880"/>
            <a:ext cx="14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4973760" y="4952880"/>
            <a:ext cx="35812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8" name=""/>
          <p:cNvSpPr/>
          <p:nvPr/>
        </p:nvSpPr>
        <p:spPr>
          <a:xfrm>
            <a:off x="4973760" y="49528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9" name=""/>
          <p:cNvSpPr/>
          <p:nvPr/>
        </p:nvSpPr>
        <p:spPr>
          <a:xfrm>
            <a:off x="4287960" y="5410080"/>
            <a:ext cx="1295280" cy="533520"/>
          </a:xfrm>
          <a:prstGeom prst="rect">
            <a:avLst/>
          </a:prstGeom>
          <a:solidFill>
            <a:srgbClr val="72a3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illation I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"/>
          <p:cNvSpPr/>
          <p:nvPr/>
        </p:nvSpPr>
        <p:spPr>
          <a:xfrm>
            <a:off x="6421320" y="5410080"/>
            <a:ext cx="1371600" cy="533520"/>
          </a:xfrm>
          <a:prstGeom prst="rect">
            <a:avLst/>
          </a:prstGeom>
          <a:solidFill>
            <a:srgbClr val="72a3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illation II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8555040" y="1294920"/>
            <a:ext cx="14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4897440" y="1295280"/>
            <a:ext cx="3657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3352680" y="1295280"/>
            <a:ext cx="1524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"/>
          <p:cNvSpPr/>
          <p:nvPr/>
        </p:nvSpPr>
        <p:spPr>
          <a:xfrm>
            <a:off x="3373560" y="1295280"/>
            <a:ext cx="14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"/>
          <p:cNvSpPr/>
          <p:nvPr/>
        </p:nvSpPr>
        <p:spPr>
          <a:xfrm>
            <a:off x="3602160" y="2590920"/>
            <a:ext cx="14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"/>
          <p:cNvSpPr/>
          <p:nvPr/>
        </p:nvSpPr>
        <p:spPr>
          <a:xfrm>
            <a:off x="3602160" y="3276720"/>
            <a:ext cx="3809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7412040" y="2590560"/>
            <a:ext cx="14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"/>
          <p:cNvSpPr/>
          <p:nvPr/>
        </p:nvSpPr>
        <p:spPr>
          <a:xfrm>
            <a:off x="1752480" y="1219320"/>
            <a:ext cx="609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9" name=""/>
          <p:cNvSpPr/>
          <p:nvPr/>
        </p:nvSpPr>
        <p:spPr>
          <a:xfrm>
            <a:off x="7010280" y="594360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0" name=""/>
          <p:cNvSpPr/>
          <p:nvPr/>
        </p:nvSpPr>
        <p:spPr>
          <a:xfrm>
            <a:off x="7010280" y="6400800"/>
            <a:ext cx="6098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"/>
          <p:cNvSpPr/>
          <p:nvPr/>
        </p:nvSpPr>
        <p:spPr>
          <a:xfrm>
            <a:off x="7715520" y="622620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er Alcohols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7010280" y="518112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"/>
          <p:cNvSpPr/>
          <p:nvPr/>
        </p:nvSpPr>
        <p:spPr>
          <a:xfrm>
            <a:off x="7010280" y="5181480"/>
            <a:ext cx="6858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4" name=""/>
          <p:cNvSpPr/>
          <p:nvPr/>
        </p:nvSpPr>
        <p:spPr>
          <a:xfrm>
            <a:off x="5638680" y="5715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7412040" y="837720"/>
            <a:ext cx="144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4820760" y="838080"/>
            <a:ext cx="2590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"/>
          <p:cNvSpPr/>
          <p:nvPr/>
        </p:nvSpPr>
        <p:spPr>
          <a:xfrm>
            <a:off x="4821120" y="838080"/>
            <a:ext cx="18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"/>
          <p:cNvSpPr/>
          <p:nvPr/>
        </p:nvSpPr>
        <p:spPr>
          <a:xfrm>
            <a:off x="5644800" y="820800"/>
            <a:ext cx="70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t Feed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"/>
          <p:cNvSpPr/>
          <p:nvPr/>
        </p:nvSpPr>
        <p:spPr>
          <a:xfrm>
            <a:off x="4118040" y="323388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d Syngas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"/>
          <p:cNvSpPr/>
          <p:nvPr/>
        </p:nvSpPr>
        <p:spPr>
          <a:xfrm>
            <a:off x="7621920" y="5029200"/>
            <a:ext cx="152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de AA Methanol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1" name=""/>
          <p:cNvSpPr/>
          <p:nvPr/>
        </p:nvSpPr>
        <p:spPr>
          <a:xfrm>
            <a:off x="6459120" y="4659480"/>
            <a:ext cx="144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ude Methanol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"/>
          <p:cNvSpPr/>
          <p:nvPr/>
        </p:nvSpPr>
        <p:spPr>
          <a:xfrm>
            <a:off x="5470200" y="1252440"/>
            <a:ext cx="125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ycle Stream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3200040" y="5715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4" name=""/>
          <p:cNvSpPr/>
          <p:nvPr/>
        </p:nvSpPr>
        <p:spPr>
          <a:xfrm>
            <a:off x="2743200" y="52578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w Key impurities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76a55"/>
                </a:solidFill>
                <a:latin typeface="Century Schoolbook"/>
              </a:rPr>
              <a:t>ECONOMIC ANALYSIS</a:t>
            </a:r>
            <a:endParaRPr b="0" lang="en-US" sz="4400" spc="-1" strike="noStrike">
              <a:solidFill>
                <a:srgbClr val="676a55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xed Capital Cost</a:t>
            </a:r>
            <a:br>
              <a:rPr sz="2000"/>
            </a:b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able 1.1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stimate costs of specific units in the process flow diagram</a:t>
            </a:r>
            <a:br>
              <a:rPr sz="1400"/>
            </a:br>
            <a:endParaRPr b="0" lang="en-US" sz="1400" spc="-1" strike="noStrike">
              <a:solidFill>
                <a:srgbClr val="676a55"/>
              </a:solidFill>
              <a:latin typeface="Century Schoolbook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457200" y="990720"/>
          <a:ext cx="7467480" cy="5232240"/>
        </p:xfrm>
        <a:graphic>
          <a:graphicData uri="http://schemas.openxmlformats.org/drawingml/2006/table">
            <a:tbl>
              <a:tblPr/>
              <a:tblGrid>
                <a:gridCol w="1494000"/>
                <a:gridCol w="1492200"/>
                <a:gridCol w="1493640"/>
                <a:gridCol w="1492200"/>
                <a:gridCol w="14954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it Ty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cri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se Cost/un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. of uni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Cost $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mp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m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237,1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,711,3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ress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MP-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resso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,311,2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,311,2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act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-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S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392,5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392,5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-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at Exchan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948,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948,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-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at Exchan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2,1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2,1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parat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-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lash un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8,1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96,3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-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tillation tow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1,0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62,1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orage Tan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loating ro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orage Ta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0,5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013,90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69,507,01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3" name=""/>
          <p:cNvSpPr/>
          <p:nvPr/>
        </p:nvSpPr>
        <p:spPr>
          <a:xfrm>
            <a:off x="669960" y="6400800"/>
            <a:ext cx="7788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mirkhas, Elton , and Raj Bedi. "METHANOL PRODUCTION IN TRINIDAD &amp; TOBAGO."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hase II Design Repor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07062006. n. pag. Web. 15 Feb 2011.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4" name=""/>
          <p:cNvGraphicFramePr/>
          <p:nvPr/>
        </p:nvGraphicFramePr>
        <p:xfrm>
          <a:off x="457200" y="609480"/>
          <a:ext cx="8458200" cy="5864400"/>
        </p:xfrm>
        <a:graphic>
          <a:graphicData uri="http://schemas.openxmlformats.org/drawingml/2006/table">
            <a:tbl>
              <a:tblPr/>
              <a:tblGrid>
                <a:gridCol w="3836880"/>
                <a:gridCol w="46213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st Fac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nual C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ed stocks (raw material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ynga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ed water make-u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 6,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 364,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70,1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ilit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ectric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oling water, 90F, 65psig (CW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led cooling water, 60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7,634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7,769,8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</a:t>
                      </a: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$90,009,7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05,413,6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erations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labor-relat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rect wages and benefi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rect salaries and benefi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erating supplies and servi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ol laborator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,048,3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09,6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4,504,1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</a:t>
                      </a: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$78,6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5,840,7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inten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ages and benefi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rials and servi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5,26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</a:t>
                      </a: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$18,767,4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34,027,4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preci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665,018,119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entire plant lif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st of Manufact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83,764,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General Expen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0,764,7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Production C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55,622,9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thanol Produ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S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15,294,40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5" name=""/>
          <p:cNvSpPr/>
          <p:nvPr/>
        </p:nvSpPr>
        <p:spPr>
          <a:xfrm>
            <a:off x="898560" y="0"/>
            <a:ext cx="7331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erating Cos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ble 1.2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stimate plant costs and operations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"/>
          <p:cNvSpPr/>
          <p:nvPr/>
        </p:nvSpPr>
        <p:spPr>
          <a:xfrm>
            <a:off x="685800" y="655308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arkins, John. "WHAT IS UNDERGROUND COAL GASIFICATION (UCG)? ."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Clean Global Energy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(2010): n. pag. Web. 15 Feb 2011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pital Investment</a:t>
            </a:r>
            <a:br>
              <a:rPr sz="28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ble 1.3: Annual costs</a:t>
            </a:r>
            <a:br>
              <a:rPr sz="1400"/>
            </a:br>
            <a:endParaRPr b="0" lang="en-US" sz="14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5760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1523880" y="1600200"/>
          <a:ext cx="6858000" cy="4419360"/>
        </p:xfrm>
        <a:graphic>
          <a:graphicData uri="http://schemas.openxmlformats.org/drawingml/2006/table">
            <a:tbl>
              <a:tblPr/>
              <a:tblGrid>
                <a:gridCol w="3204000"/>
                <a:gridCol w="3654000"/>
              </a:tblGrid>
              <a:tr h="84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st Fac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ypical factor in American engineering un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il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eam, 300psi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.40/ 1000l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ectri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0.04/KW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oling wa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0.05/ 1000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aste treat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3.00/ 1000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SR catalyst 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6.00/ l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ed water make-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.50/ 1000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0" name=""/>
          <p:cNvSpPr/>
          <p:nvPr/>
        </p:nvSpPr>
        <p:spPr>
          <a:xfrm>
            <a:off x="609480" y="6400800"/>
            <a:ext cx="8229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ell, David, and Brian Towler.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Coal Gasification and Its Application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 William Andrew, 2010. Print. 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Future Goals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clude side reaction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ccount for by produc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efine calculations using more accurate conditio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eaction kinetic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conomics consistent with our projec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istillation column specific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zing of equipm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eat exchangers and pump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mpresso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30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76a55"/>
                </a:solidFill>
                <a:latin typeface="Century Schoolbook"/>
              </a:rPr>
              <a:t>QUESTIONS?</a:t>
            </a:r>
            <a:endParaRPr b="0" lang="en-US" sz="4800" spc="-1" strike="noStrike">
              <a:solidFill>
                <a:srgbClr val="676a55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SCHEMATIC FLOW DIAGRAM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0" t="23464" r="0" b="0"/>
          <a:stretch/>
        </p:blipFill>
        <p:spPr>
          <a:xfrm>
            <a:off x="0" y="1981080"/>
            <a:ext cx="88390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61760" y="1066320"/>
            <a:ext cx="79246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76a55"/>
                </a:solidFill>
                <a:latin typeface="Century Schoolbook"/>
              </a:rPr>
              <a:t>MATERIAL AND ENERGY BALANCES</a:t>
            </a:r>
            <a:br>
              <a:rPr sz="4800"/>
            </a:br>
            <a:r>
              <a:rPr b="0" lang="en-US" sz="4800" spc="-1" strike="noStrike">
                <a:solidFill>
                  <a:srgbClr val="676a55"/>
                </a:solidFill>
                <a:latin typeface="Century Schoolbook"/>
              </a:rPr>
              <a:t>REACTOR</a:t>
            </a:r>
            <a:endParaRPr b="0" lang="en-US" sz="4800" spc="-1" strike="noStrike">
              <a:solidFill>
                <a:srgbClr val="676a55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MATERIAL AND ENERGY BALANCE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0" y="1523880"/>
          <a:ext cx="9144000" cy="4343400"/>
        </p:xfrm>
        <a:graphic>
          <a:graphicData uri="http://schemas.openxmlformats.org/drawingml/2006/table">
            <a:tbl>
              <a:tblPr/>
              <a:tblGrid>
                <a:gridCol w="1143000"/>
                <a:gridCol w="1041480"/>
                <a:gridCol w="1295280"/>
                <a:gridCol w="1082880"/>
                <a:gridCol w="1141200"/>
                <a:gridCol w="1216080"/>
                <a:gridCol w="1236600"/>
                <a:gridCol w="987480"/>
              </a:tblGrid>
              <a:tr h="574920">
                <a:tc gridSpan="7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terial Balance Rea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</a:tr>
              <a:tr h="869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mpon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le Fl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mposition 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eed to Reactor (lbmol/h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urge (lbmol/h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cycle (lbmol/h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duct Out (lbmol/h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 Tons per 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  <a:tr h="579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bmol/h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675.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7.4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300.971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579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bmol/h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831.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53.4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5641.5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  <a:tr h="581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bmol/h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79.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62.9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546.879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579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H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bmol/h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488.4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608.6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  <a:tr h="579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bmol/h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1.20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5.507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MATERIAL AND ENERGY BALANCE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0" y="990720"/>
          <a:ext cx="9144000" cy="5476680"/>
        </p:xfrm>
        <a:graphic>
          <a:graphicData uri="http://schemas.openxmlformats.org/drawingml/2006/table">
            <a:tbl>
              <a:tblPr/>
              <a:tblGrid>
                <a:gridCol w="1447920"/>
                <a:gridCol w="1657080"/>
                <a:gridCol w="1239840"/>
                <a:gridCol w="1721160"/>
                <a:gridCol w="1085760"/>
                <a:gridCol w="1992240"/>
              </a:tblGrid>
              <a:tr h="496800">
                <a:tc gridSpan="6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nergy Balance Rea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1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mpon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0ccb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perature (F) 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0ccb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ssure (psi) i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0ccb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thalpy (Btu/lbmol) 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0ccb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emp(F) o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0ccb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nthalpy (Btu/lbmol) o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0ccb0"/>
                    </a:solidFill>
                  </a:tcPr>
                </a:tc>
              </a:tr>
              <a:tr h="422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57190E+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89.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616E+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378E+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89.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56E+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422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9E+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89.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215E+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  <a:tr h="422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H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89.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34806E+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89.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78894E+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  <a:tr h="420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action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8745426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422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action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3130.3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  <a:tr h="425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2E+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18E+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496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  <a:tr h="44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0010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76a55"/>
                </a:solidFill>
                <a:latin typeface="Century Schoolbook"/>
              </a:rPr>
              <a:t>HAND CALCULATIONS AND DATA REACTOR</a:t>
            </a:r>
            <a:endParaRPr b="0" lang="en-US" sz="4800" spc="-1" strike="noStrike">
              <a:solidFill>
                <a:srgbClr val="676a55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Reactor Material Balance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ssumption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100% separation of all feed gases (CO, H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, CO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) and products (CH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OH, H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O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Purge Concentrations are controllable for now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No Nitrogen or Water in feed synga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Other side reactions ignored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Pressure effects on C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Century Schoolbook"/>
              </a:rPr>
              <a:t>p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6a55"/>
                </a:solidFill>
                <a:latin typeface="Century Schoolbook"/>
              </a:rPr>
              <a:t>Hand Calculations Reactor</a:t>
            </a:r>
            <a:endParaRPr b="0" lang="en-US" sz="26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Reaction 1: CO +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↔ 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OH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                             </a:t>
            </a:r>
            <a:r>
              <a:rPr b="0" lang="el-GR" sz="1800" spc="-1" strike="noStrike">
                <a:solidFill>
                  <a:srgbClr val="000000"/>
                </a:solidFill>
                <a:latin typeface="Century Schoolbook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entury Schoolbook"/>
              </a:rPr>
              <a:t>rxn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= -38559 Btu/lbmo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Reaction 2: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+3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↔ 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OH +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0                </a:t>
            </a:r>
            <a:r>
              <a:rPr b="0" lang="el-GR" sz="1800" spc="-1" strike="noStrike">
                <a:solidFill>
                  <a:srgbClr val="000000"/>
                </a:solidFill>
                <a:latin typeface="Century Schoolbook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entury Schoolbook"/>
              </a:rPr>
              <a:t>rxn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= -21324.1 Btu/lbmo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Reaction 1 Conv = 0.5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Reaction 2 Conv = .04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Material Balance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25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CO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Century Schoolbook"/>
              </a:rPr>
              <a:t>out</a:t>
            </a: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 = CO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Century Schoolbook"/>
              </a:rPr>
              <a:t>feed</a:t>
            </a: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 + CO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Century Schoolbook"/>
              </a:rPr>
              <a:t>rec</a:t>
            </a: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– .5(CO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Century Schoolbook"/>
              </a:rPr>
              <a:t>feed </a:t>
            </a: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+ CO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Century Schoolbook"/>
              </a:rPr>
              <a:t>rec</a:t>
            </a: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– CO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Century Schoolbook"/>
              </a:rPr>
              <a:t>purge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25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CO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Century Schoolbook"/>
              </a:rPr>
              <a:t>2out</a:t>
            </a: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 = (CO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Century Schoolbook"/>
              </a:rPr>
              <a:t>2 feed</a:t>
            </a: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 + CO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Century Schoolbook"/>
              </a:rPr>
              <a:t>2rec</a:t>
            </a: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) – 0.04 (CO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Century Schoolbook"/>
              </a:rPr>
              <a:t>2 feed</a:t>
            </a: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 + CO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Century Schoolbook"/>
              </a:rPr>
              <a:t>2rec</a:t>
            </a: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) – CO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Century Schoolbook"/>
              </a:rPr>
              <a:t>2 purge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25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CH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OH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Century Schoolbook"/>
              </a:rPr>
              <a:t>out</a:t>
            </a: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 = .5(CO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Century Schoolbook"/>
              </a:rPr>
              <a:t>out</a:t>
            </a: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 + CO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Century Schoolbook"/>
              </a:rPr>
              <a:t>feed</a:t>
            </a: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) + .04(CO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Century Schoolbook"/>
              </a:rPr>
              <a:t>2out</a:t>
            </a: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 + CO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Century Schoolbook"/>
              </a:rPr>
              <a:t>2 feed</a:t>
            </a: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Energy Balanc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25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Enthalpy in (BTU) : H = </a:t>
            </a:r>
            <a:r>
              <a:rPr b="0" lang="el-GR" sz="1700" spc="-1" strike="noStrike">
                <a:solidFill>
                  <a:srgbClr val="000000"/>
                </a:solidFill>
                <a:latin typeface="Century Schoolbook"/>
              </a:rPr>
              <a:t>Δ</a:t>
            </a: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 H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Century Schoolbook"/>
              </a:rPr>
              <a:t>ref</a:t>
            </a: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 + ∫C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Century Schoolbook"/>
              </a:rPr>
              <a:t>p</a:t>
            </a: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dt for each component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25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Where Cp was used for gases: Cp = A + BT + CT</a:t>
            </a:r>
            <a:r>
              <a:rPr b="0" lang="en-US" sz="17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 +DT</a:t>
            </a:r>
            <a:r>
              <a:rPr b="0" lang="en-US" sz="1700" spc="-1" strike="noStrike" baseline="30000">
                <a:solidFill>
                  <a:srgbClr val="000000"/>
                </a:solidFill>
                <a:latin typeface="Century Schoolbook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25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Enthalpy of reaction = .5(</a:t>
            </a:r>
            <a:r>
              <a:rPr b="0" lang="el-GR" sz="1700" spc="-1" strike="noStrike">
                <a:solidFill>
                  <a:srgbClr val="000000"/>
                </a:solidFill>
                <a:latin typeface="Century Schoolbook"/>
              </a:rPr>
              <a:t>Δ</a:t>
            </a: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H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Century Schoolbook"/>
              </a:rPr>
              <a:t>rxn1</a:t>
            </a: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)CO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Century Schoolbook"/>
              </a:rPr>
              <a:t>in</a:t>
            </a: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 + .04(</a:t>
            </a:r>
            <a:r>
              <a:rPr b="0" lang="el-GR" sz="1700" spc="-1" strike="noStrike">
                <a:solidFill>
                  <a:srgbClr val="000000"/>
                </a:solidFill>
                <a:latin typeface="Century Schoolbook"/>
              </a:rPr>
              <a:t>Δ</a:t>
            </a: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H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Century Schoolbook"/>
              </a:rPr>
              <a:t>rxn2</a:t>
            </a: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)CO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Century Schoolbook"/>
              </a:rPr>
              <a:t>2in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00:16:00Z</dcterms:created>
  <dc:creator>Linda</dc:creator>
  <dc:description/>
  <dc:language>en-US</dc:language>
  <cp:lastModifiedBy>xplabpc</cp:lastModifiedBy>
  <dcterms:modified xsi:type="dcterms:W3CDTF">2011-02-15T19:18:54Z</dcterms:modified>
  <cp:revision>62</cp:revision>
  <dc:subject/>
  <dc:title>Slide 1</dc:title>
</cp:coreProperties>
</file>